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81995-2799-4316-97E4-854BFB45C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5D7B4-13FA-4752-858B-D522373AE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08603-746B-41A2-A428-82254BE2C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E0ECD-F0C2-4284-9532-F9D1E60E6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F789A-7A23-492D-A517-B2D61420A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482CA-024D-4003-9FCE-A022CC9D6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82B40-B288-4D53-AE57-43F62195A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4C71E-97F0-4CE2-8EEF-D5A8D39BC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07F1C-F13A-4B06-9118-F66AF196E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5388F-D721-4186-956A-0C37815C6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DBB0D-8DCE-483B-A6B2-B2EFBA4D3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EE2E4-DBFD-4CEC-B396-8F25309BE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92C6-A3D2-4589-ADC9-011CE5799F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 activity: How much is your gold worth?</a:t>
            </a:r>
            <a:endParaRPr b="0" lang="en-US" sz="4400" spc="-1" strike="noStrike">
              <a:solidFill>
                <a:srgbClr val="000000"/>
              </a:solidFill>
              <a:latin typeface="Arial"/>
            </a:endParaRPr>
          </a:p>
        </p:txBody>
      </p:sp>
      <p:pic>
        <p:nvPicPr>
          <p:cNvPr id="42" name="" descr=""/>
          <p:cNvPicPr/>
          <p:nvPr/>
        </p:nvPicPr>
        <p:blipFill>
          <a:blip r:embed="rId1"/>
          <a:stretch/>
        </p:blipFill>
        <p:spPr>
          <a:xfrm>
            <a:off x="1371600" y="3886200"/>
            <a:ext cx="640080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Ferrari Enzo $670,000.  The most known supercar ever built. The Enzo has a top speed of 217 mph and reaching 60 mph in 3.4 seconds. Only 400 units were produced and it is currently being sold for over $1,000,000 at a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rrari Enzo</a:t>
            </a:r>
            <a:endParaRPr b="0" lang="en-US" sz="4400" spc="-1" strike="noStrike">
              <a:solidFill>
                <a:srgbClr val="000000"/>
              </a:solidFill>
              <a:latin typeface="Arial"/>
            </a:endParaRPr>
          </a:p>
        </p:txBody>
      </p:sp>
      <p:pic>
        <p:nvPicPr>
          <p:cNvPr id="6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Pagani Zonda C12 F $667,321. Produced by a small independent company in Italy, the Pagani Zonda C12 F is the 5th fastest car in the world. It promises to delivery a top speed of 215 mph+ and it can reach 0-60 in 3.5 sec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ani Zonda C12 F</a:t>
            </a:r>
            <a:endParaRPr b="0" lang="en-US" sz="4400" spc="-1" strike="noStrike">
              <a:solidFill>
                <a:srgbClr val="000000"/>
              </a:solidFill>
              <a:latin typeface="Arial"/>
            </a:endParaRPr>
          </a:p>
        </p:txBody>
      </p:sp>
      <p:pic>
        <p:nvPicPr>
          <p:cNvPr id="67" name="" descr=""/>
          <p:cNvPicPr/>
          <p:nvPr/>
        </p:nvPicPr>
        <p:blipFill>
          <a:blip r:embed="rId1"/>
          <a:stretch/>
        </p:blipFill>
        <p:spPr>
          <a:xfrm>
            <a:off x="1405080" y="1600200"/>
            <a:ext cx="633384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SSC Ultimate Aero $654,400. The 6th most expensive car is actually the 2nd fastest street legal car in the world with a top speed of 257 mph+ and reaching 0-60 in 2.7 seconds. It costs nearly half as much as the Bugatti Veyron, yet has enough power to compete against the most expensive car. It is estimated that only 25 of this exact model will ever be p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C Ultimate Aero</a:t>
            </a:r>
            <a:endParaRPr b="0" lang="en-US" sz="4400" spc="-1" strike="noStrike">
              <a:solidFill>
                <a:srgbClr val="000000"/>
              </a:solidFill>
              <a:latin typeface="Arial"/>
            </a:endParaRPr>
          </a:p>
        </p:txBody>
      </p:sp>
      <p:pic>
        <p:nvPicPr>
          <p:cNvPr id="71" name="" descr=""/>
          <p:cNvPicPr/>
          <p:nvPr/>
        </p:nvPicPr>
        <p:blipFill>
          <a:blip r:embed="rId1"/>
          <a:stretch/>
        </p:blipFill>
        <p:spPr>
          <a:xfrm>
            <a:off x="876240" y="1600200"/>
            <a:ext cx="738972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aleen S7 Twin Turbo $555,000. The first true American production certified supercar is also ranked 3rd for the fastest car in the world. It has a top speed of 248 mph+ and it can reach 0-60 in 3.2 seconds. If you are a true American patriot, you can be proud to show off this c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en S7 Twin Turbo</a:t>
            </a:r>
            <a:endParaRPr b="0" lang="en-US" sz="4400" spc="-1" strike="noStrike">
              <a:solidFill>
                <a:srgbClr val="000000"/>
              </a:solidFill>
              <a:latin typeface="Arial"/>
            </a:endParaRPr>
          </a:p>
        </p:txBody>
      </p:sp>
      <p:pic>
        <p:nvPicPr>
          <p:cNvPr id="75" name="" descr=""/>
          <p:cNvPicPr/>
          <p:nvPr/>
        </p:nvPicPr>
        <p:blipFill>
          <a:blip r:embed="rId1"/>
          <a:stretch/>
        </p:blipFill>
        <p:spPr>
          <a:xfrm>
            <a:off x="457200" y="1736640"/>
            <a:ext cx="8229600" cy="425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Koenigsegg CCX $545,568.  Swedish made, the Koenigsegg is fighting hard to become the fastest car in the world. Currently, it is the 4th fastest car in the world with a top speed of 245 mph+, the car manufacture Koenigsegg is not giving up and will continue to try and produce the fastest car. Good luck with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enigsegg CCX</a:t>
            </a:r>
            <a:endParaRPr b="0" lang="en-US" sz="4400" spc="-1" strike="noStrike">
              <a:solidFill>
                <a:srgbClr val="000000"/>
              </a:solidFill>
              <a:latin typeface="Arial"/>
            </a:endParaRPr>
          </a:p>
        </p:txBody>
      </p:sp>
      <p:pic>
        <p:nvPicPr>
          <p:cNvPr id="79" name="" descr=""/>
          <p:cNvPicPr/>
          <p:nvPr/>
        </p:nvPicPr>
        <p:blipFill>
          <a:blip r:embed="rId1"/>
          <a:stretch/>
        </p:blipFill>
        <p:spPr>
          <a:xfrm>
            <a:off x="609480" y="2438280"/>
            <a:ext cx="80010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f Gold is $1500 per ounce and you have 21.6 ounces of gold stashed, </a:t>
            </a:r>
            <a:r>
              <a:rPr b="0" lang="en-US" sz="3200" spc="-1" strike="noStrike" u="sng">
                <a:solidFill>
                  <a:srgbClr val="000000"/>
                </a:solidFill>
                <a:uFillTx/>
                <a:latin typeface="Arial"/>
              </a:rPr>
              <a:t>estimate the value of your go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u="sng">
                <a:solidFill>
                  <a:srgbClr val="000000"/>
                </a:solidFill>
                <a:uFillTx/>
                <a:latin typeface="Arial"/>
              </a:rPr>
              <a:t> </a:t>
            </a:r>
            <a:r>
              <a:rPr b="0" lang="en-US" sz="3200" spc="-1" strike="noStrike">
                <a:solidFill>
                  <a:srgbClr val="000000"/>
                </a:solidFill>
                <a:latin typeface="Arial"/>
              </a:rPr>
              <a:t>Calculate the total value of your gold and round to the nearest pen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ill you have enough money to buy your dream c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3429000" y="4800600"/>
            <a:ext cx="239076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Mercedes Benz SLR McLaren Roadster $495,000. A GT supercar, the SLR McLaren is the fastest automatic transmission car in the world with a top speed of 206 mph+ and reaching 60 mph in 3.8 seconds. It is a luxurious convertible with a really powerful engine, which results in outstanding performances and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Benz SLR McLaren Roadster</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Porsche Carrera GT $440,000. A supercar with dynamic stability control and a top speed of 205 mph+ and it can reach 0-60 in 3.9 seconds. The Porsche Carrera GT applies the absolute calibers of a true racing car to offer an unprecedented driving feeling on the ro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sche Carrera GT </a:t>
            </a:r>
            <a:endParaRPr b="0" lang="en-US" sz="4400" spc="-1" strike="noStrike">
              <a:solidFill>
                <a:srgbClr val="000000"/>
              </a:solidFill>
              <a:latin typeface="Arial"/>
            </a:endParaRPr>
          </a:p>
        </p:txBody>
      </p:sp>
      <p:pic>
        <p:nvPicPr>
          <p:cNvPr id="8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much gold would you ne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y the Lamborghini Reventon at $1,600,0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gold is $1500 per ou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wondered what the top 10 most expensive cars in the world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wondered how much they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49"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Bugatti Veyron $1,700,000. This is by far the most expensive street legal car available on the market today. It is the fastest accelerating car reaching 0-60 in 2.5 seconds. It is also the fastest street legal car when tested again on July 10, 2010 with the 2010 Super Sport Version reaching a top speed of 267 mp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gatti Veyron</a:t>
            </a:r>
            <a:endParaRPr b="0" lang="en-US" sz="4400" spc="-1" strike="noStrike">
              <a:solidFill>
                <a:srgbClr val="000000"/>
              </a:solidFill>
              <a:latin typeface="Arial"/>
            </a:endParaRPr>
          </a:p>
        </p:txBody>
      </p:sp>
      <p:pic>
        <p:nvPicPr>
          <p:cNvPr id="5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amborghini Reventon $1,600,000. The most powerful and the most expensive Lamborghini ever built is the second on the list. It takes 3.3 seconds to reach 60 mph and it has a top speed of 211 mph. Its rarity (limited to 20) and slick design are the reasons why it is so expensive and costly to 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mborghini Reventon</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994040"/>
            <a:ext cx="8229600" cy="373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cLaren F1 $970,000.  In 1994, the McLaren F1 was the fastest and most expensive car. Even though it was built 15 years ago, it has an unbelievable  top speed of 240 mph and reaching 60 mph in 3.2 seconds. Even as of today, the McLaren F1 is still top on the list and it outperformed many other superc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Laren F1</a:t>
            </a:r>
            <a:endParaRPr b="0" lang="en-US" sz="4400" spc="-1" strike="noStrike">
              <a:solidFill>
                <a:srgbClr val="000000"/>
              </a:solidFill>
              <a:latin typeface="Arial"/>
            </a:endParaRPr>
          </a:p>
        </p:txBody>
      </p:sp>
      <p:pic>
        <p:nvPicPr>
          <p:cNvPr id="59" name="" descr=""/>
          <p:cNvPicPr/>
          <p:nvPr/>
        </p:nvPicPr>
        <p:blipFill>
          <a:blip r:embed="rId1"/>
          <a:stretch/>
        </p:blipFill>
        <p:spPr>
          <a:xfrm>
            <a:off x="1079640" y="1600200"/>
            <a:ext cx="69847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21:45:17Z</dcterms:created>
  <dc:creator>ASD</dc:creator>
  <dc:description/>
  <dc:language>en-US</dc:language>
  <cp:lastModifiedBy>ASD</cp:lastModifiedBy>
  <dcterms:modified xsi:type="dcterms:W3CDTF">2011-06-06T22:14:32Z</dcterms:modified>
  <cp:revision>7</cp:revision>
  <dc:subject/>
  <dc:title>Math activity: How much is your gold worth?</dc:title>
</cp:coreProperties>
</file>